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DEC-3DE4-476A-8215-6243DCA4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A06-A5A7-461D-9B0F-35E28A7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9F1-730D-4EC6-A0F5-61595925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E87-8BB2-450A-9475-31ABF58E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882-47D9-401D-852A-3B16615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D7F-3334-48EC-931F-1C64937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191-0834-418A-98BD-B8CE76D6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EA6-621A-449B-AA7D-CB2B61B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73F-5228-4BBE-81D9-45383C59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AE2-ED23-4371-8979-CA2D3E4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262-C369-4E84-8B99-F53F448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ADB-31FF-4900-8858-5EDACDC5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F1A-4711-461B-8F0E-F057FD81F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impl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HI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“pure” communist system ever existed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, what is the challenge of creating a “pure” communist syst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paragraph fo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HI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America is a capitalist system.  Capitalism is often described as a system based on “survival of the fittest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in the United States, what do you view as the positives of a capitalist syste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view as the negatives of a capitalist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the symbol of Communis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Hammer and the Si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16095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168444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3284640"/>
            <a:ext cx="1873080" cy="936360"/>
          </a:xfrm>
          <a:prstGeom prst="wedgeRoundRectCallout">
            <a:avLst>
              <a:gd name="adj1" fmla="val -33388"/>
              <a:gd name="adj2" fmla="val 71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Hammer for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4221000"/>
            <a:ext cx="2016360" cy="1008360"/>
          </a:xfrm>
          <a:prstGeom prst="wedgeRoundRectCallout">
            <a:avLst>
              <a:gd name="adj1" fmla="val -74564"/>
              <a:gd name="adj2" fmla="val 28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Sickle for the Peasants – the farm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57340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ho are these gu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ose Guys’ wro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ommunist Manifest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18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a short boo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billions of people have read 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1190520" cy="15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3645000"/>
            <a:ext cx="200988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373720"/>
            <a:ext cx="35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 is Karl Mar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‘Father of Communism’. People who believe in his ideas are called ‘Marxis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537372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 is his good friend, Frederick Eng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Commu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rx and Engels studied the history of the world’s econom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means the way that power, industry and finance are control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saw the way countries developed in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734080"/>
            <a:ext cx="12236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4869000"/>
            <a:ext cx="144000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292640"/>
            <a:ext cx="180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357720"/>
            <a:ext cx="1656000" cy="115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2421000"/>
            <a:ext cx="165600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055600">
            <a:off x="1476000" y="5516280"/>
            <a:ext cx="647640" cy="288720"/>
          </a:xfrm>
          <a:prstGeom prst="rightArrow">
            <a:avLst>
              <a:gd name="adj1" fmla="val 50000"/>
              <a:gd name="adj2" fmla="val 56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291400">
            <a:off x="3203280" y="501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335800">
            <a:off x="5219640" y="4221000"/>
            <a:ext cx="792360" cy="432000"/>
          </a:xfrm>
          <a:prstGeom prst="rightArrow">
            <a:avLst>
              <a:gd name="adj1" fmla="val 50000"/>
              <a:gd name="adj2" fmla="val 458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591800">
            <a:off x="7093080" y="328464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795920"/>
            <a:ext cx="3581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The next few slides will explain these in detail.  As you proceed, please fill in your char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DO NOT copy word for word.  Instead,rewrite it in your own words. You will be tested on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157720"/>
            <a:ext cx="2089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239840"/>
            <a:ext cx="8642160" cy="348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43280" y="4869000"/>
            <a:ext cx="57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how humans first lived together – in small tribes. Primitive means ‘not very advanced’ e.g. hunting and gathering. Communism means that everything was shared amongst the tribe – food, jobs, belongings. No-one owned land. Eventually a group comes to power – this leads to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Feuda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880000" cy="27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64816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55166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mi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046000">
            <a:off x="1618920" y="530064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43700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628640"/>
            <a:ext cx="23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der feudalism, a king or emperor or chief becomes the ruler over all the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177336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gives land and privileges to ‘nobles’ who rule the people for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860640"/>
            <a:ext cx="158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are kept uneducated and told that god chose the king to rule. The church helps the king this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4724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trade develops, some people get richer. This leads to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apitalism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1387440"/>
            <a:ext cx="1830240" cy="218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1280" y="465300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u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008800">
            <a:off x="3635280" y="4437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3645000"/>
            <a:ext cx="1439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024000" cy="174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88000" y="2362320"/>
            <a:ext cx="2184480" cy="203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386244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business owners or capitalists get richer while the workers do all the hard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133720"/>
            <a:ext cx="136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apitalists get more power to serve their own inter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4648320"/>
            <a:ext cx="41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According to Marx and Engel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Capitalism creates a huge working-class of people who soon get angry at the way they are treated. They organize in unions and demand changes. This will lead to a revolution and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Socia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4249800" cy="2232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790720" cy="34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565360"/>
            <a:ext cx="17272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364500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927200">
            <a:off x="4932360" y="335736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86900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Socialist revolution all the rulers – kings, churches, capitalists are swept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workers take control of the country to produce things for ever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141300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cause nothing is made for profit, all people benefit from education and heal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29242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se ideas spread across the world to create Communis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ges of Econ.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2800440"/>
            <a:ext cx="2867040" cy="192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2263680" cy="195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64000" y="256536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1341360"/>
            <a:ext cx="1727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95600">
            <a:off x="6372000" y="2349000"/>
            <a:ext cx="1152360" cy="358920"/>
          </a:xfrm>
          <a:prstGeom prst="rightArrow">
            <a:avLst>
              <a:gd name="adj1" fmla="val 50000"/>
              <a:gd name="adj2" fmla="val 802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ccording to Marx and Engel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the remaining capitalists put up a bitter fight, but the will of the people will always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013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everyone now works together, war is a thing of the past – armies are not needed. Sharing means no police are needed. Everything is provided by the people – so money becomes a thing of the p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4941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 human activity goes towards benefiting each other – allowing all to live their lives to the f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40360" y="4797360"/>
            <a:ext cx="24001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20:06:02Z</dcterms:created>
  <dc:creator>Dafydd Humphreys</dc:creator>
  <dc:description/>
  <cp:keywords>communism</cp:keywords>
  <dc:language>en-US</dc:language>
  <cp:lastModifiedBy>Ed Center RLASD</cp:lastModifiedBy>
  <dcterms:modified xsi:type="dcterms:W3CDTF">2010-11-04T14:55:49Z</dcterms:modified>
  <cp:revision>8</cp:revision>
  <dc:subject>History</dc:subject>
  <dc:title>What is Communism?</dc:title>
</cp:coreProperties>
</file>